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png" ContentType="image/png"/>
  <Override PartName="/ppt/media/image5.gif" ContentType="image/gif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6.wmf" ContentType="image/x-wmf"/>
  <Override PartName="/ppt/media/image7.gif" ContentType="image/gi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2C0-8D52-4D58-94B0-CA4B17ED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30C-62D4-437D-9C93-159D4383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269-A9AA-4607-A287-70497A30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032-32A2-41A6-A731-F701F923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433-9953-4D31-A25F-857884B6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F1A-485F-459D-A41A-F2F9F750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D3A-C003-4645-8FBF-CE6B3116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4AC-81DC-418D-A099-4383BBE8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27F-5C02-4973-B62B-869A99B0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061-15FD-4E34-845D-017C5AA3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399-405E-47DD-803C-426FE9E1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003-36BF-48C2-84DF-77CFF736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3807-B3A3-43FF-8201-381745EA4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hyperlink" Target="file:///TABELLA-LABORATORI-SINCRONI.doc" TargetMode="External"/><Relationship Id="rId4" Type="http://schemas.openxmlformats.org/officeDocument/2006/relationships/hyperlink" Target="file:///Modalit&#224;%20per%20partecipare.doc" TargetMode="External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1280" y="17002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BORATORIO SINCR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5086440"/>
            <a:ext cx="6769080" cy="358560"/>
          </a:xfrm>
          <a:prstGeom prst="rect">
            <a:avLst/>
          </a:prstGeom>
          <a:gradFill rotWithShape="0">
            <a:gsLst>
              <a:gs pos="0">
                <a:srgbClr val="dedeee"/>
              </a:gs>
              <a:gs pos="100000">
                <a:srgbClr val="333399">
                  <a:alpha val="5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LE FASI – ARTICOLAZIONE - PARTECIP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55840" y="2473200"/>
            <a:ext cx="3187800" cy="18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5BB-CC05-49C7-97F5-084CE60492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08000" y="693720"/>
            <a:ext cx="4176720" cy="358920"/>
          </a:xfrm>
          <a:prstGeom prst="rect">
            <a:avLst/>
          </a:prstGeom>
          <a:gradFill rotWithShape="0">
            <a:gsLst>
              <a:gs pos="0">
                <a:srgbClr val="dedeee"/>
              </a:gs>
              <a:gs pos="100000">
                <a:srgbClr val="333399">
                  <a:alpha val="5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RTI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4800" y="1627200"/>
            <a:ext cx="40384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O EV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visione di mater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e sui materiali condiv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gna per i corsisti (file da elaborare e inviare nel forum specif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232056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O EVENTO (dopo 15 gior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visione della sintesi elaborata dal moderatore e discu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o fi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icazione al tutor per il riconoscimento dei cre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D92-2A03-4129-BFF8-D38F0A039F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24000" y="404640"/>
            <a:ext cx="3600360" cy="358920"/>
          </a:xfrm>
          <a:prstGeom prst="rect">
            <a:avLst/>
          </a:prstGeom>
          <a:gradFill rotWithShape="0">
            <a:gsLst>
              <a:gs pos="0">
                <a:srgbClr val="dedeee"/>
              </a:gs>
              <a:gs pos="100000">
                <a:srgbClr val="333399">
                  <a:alpha val="5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ARTECIP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617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der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-moderatore (tecn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rsi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53040" y="3573360"/>
            <a:ext cx="1758960" cy="2087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45040" y="1844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66120" y="18446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49760" y="242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86480" y="24210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81400" y="3500280"/>
            <a:ext cx="223200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6A7D-7DA3-4415-BC17-225EE3F428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11280" y="17002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BORATORIO SINCR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3357720"/>
            <a:ext cx="50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"/>
              </a:rPr>
              <a:t>F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9B8-39DF-4BAA-8F1C-6D287BA75B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8480" y="1341360"/>
            <a:ext cx="4403520" cy="4697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95640" y="333360"/>
            <a:ext cx="3384360" cy="358920"/>
          </a:xfrm>
          <a:prstGeom prst="rect">
            <a:avLst/>
          </a:prstGeom>
          <a:gradFill rotWithShape="0">
            <a:gsLst>
              <a:gs pos="0">
                <a:srgbClr val="dedeee"/>
              </a:gs>
              <a:gs pos="100000">
                <a:srgbClr val="333399">
                  <a:alpha val="5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LE F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2E2-3B74-44E4-8F28-4BDB2E5728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0000" y="515880"/>
            <a:ext cx="1800360" cy="787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2000" y="2421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PRENOT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ACCERTAMENTO DEI REQUISITI TEC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VE TECNICHE DI VER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GGIORNAMENTO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LLEGAMENTO NEL PRIMO GIORNO DELL’EVENTO CON ADSL (per scaricare il software CENTRA - 1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659640" y="1125360"/>
            <a:ext cx="1390680" cy="8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C788-3465-4DCB-A7C5-16607B93C0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333360"/>
            <a:ext cx="806436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a: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help_laboratori.gruppo@indire.it</a:t>
            </a:r>
            <a:br>
              <a:rPr sz="1400"/>
            </a:b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viato: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abato 5 febbraio 2005 9.47</a:t>
            </a:r>
            <a:br>
              <a:rPr sz="1400"/>
            </a:b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Oggetto: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scrizione ai laboratori sincroni Centra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entile…………………., Abbiamo registrato la tua iscrizione al laboratorio di gruppo che ha per tema: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Glossario del PSP e dell\'Unità di apprendimen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nell'ambito del piano di formazione PuntoEdu Dlgs 59..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i ricordiamo che hai scelto di partecipare alle due sessioni sincrone e che la prima di queste è fissata per il giorno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9/2/2005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alle ore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6:30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laboratorio avviene in modalità sincrona e tutti i componenti del gruppo devono essere collegati contemporaneamente mezz'ora prima dell'evento per una prova tecnica: ti raccomandiamo quindi di essere puntuale.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corda che per partecipare all'evento devi avere sul tuo computer delle cuffie con microfono (o un microfono separato e le casse acustiche).Per organizzare al meglio l'evento, ti preghiamo di rispondere a questo messaggio confermando la tua presenza alla sessione delle ore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4:45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9/2/2005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e a quella delle ore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4:45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3/2/2005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ragioni tecniche e organizzative non è possibile operare modifiche a queste date.</a:t>
            </a: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il riconoscimento dei crediti attribuiti da questo laboratorio è indispensabile prendere parte a entrambe le sessioni.Ringraziandoti per la partecipazione al lavoro del gruppo, ti salutiamo cordialmente,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segreteria del laboratorio</a:t>
            </a: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010 20953582/4</a:t>
            </a: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help_laboratori.gruppo@indire.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7D4F-5D1B-4EAC-91A2-E80C9407CA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942920" cy="781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87280" y="270828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AMENTO ALMENO TRENTA MINUTI PRIMA DELL’EVENTO PER PROVE TECNICHE CON MODERATORE E CO-MODERATORE (tecn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164360" y="1413000"/>
            <a:ext cx="647640" cy="61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F6E-51BD-4B83-9E47-16566C74D3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0" t="0" r="21747" b="20271"/>
          <a:stretch/>
        </p:blipFill>
        <p:spPr>
          <a:xfrm>
            <a:off x="755640" y="333360"/>
            <a:ext cx="763272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5DE-4E07-4024-9930-61B7201426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3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ISPOSI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49200" y="2320560"/>
            <a:ext cx="80028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 IN ENTRATA E USC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VISION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VAGNA DI CONDIVI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MENTI PER LA COMUNICAZIONE “VELOC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64000" y="4941720"/>
            <a:ext cx="1733400" cy="3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020000" y="2349360"/>
            <a:ext cx="1257120" cy="47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132000" y="3933720"/>
            <a:ext cx="648000" cy="4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1C3E-AAA5-4414-A98C-6EF61E2C4E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016360" cy="717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156360" y="836640"/>
            <a:ext cx="609480" cy="638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58920" y="1988640"/>
            <a:ext cx="7129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ati dei corsi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o di sintesi a cura del moder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ità di “riprodurre” la registrazione di tutto l’evento anche dopo la conclus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E35-7CF5-4C58-87E4-73708498FA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5640" y="76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1125360"/>
            <a:ext cx="7561440" cy="4483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gget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certificazione del laboratorio sincrono di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ntile Tutor ………………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la presente si comunica  che la corsista  ……………..ha svolto il laboratorio di gruppo in modalità sincrona dal titolo LE PAROLE PER DIRLO - GLOSSARIO DEL PSP da me moderato 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° sessione il giorno 9 febbraio 2005 dalle ore14,45 alle ore 16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 sessione il giorno 23 febbraio 2005  dalle ore14,45 alle ore 16,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inviano inoltre (in allegato alla e-mail)  l'elaborato individuale del corsista e l’elaborato finale prodotto dal grup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rdi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trizia Vayo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n allegato : Sintesi dell’elaborazione finale, contributo del cors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1E0C-4495-40C4-B912-7A2422CED8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21:30:33Z</dcterms:created>
  <dc:creator>Antonella Piccolo</dc:creator>
  <dc:description/>
  <dc:language>en-US</dc:language>
  <cp:lastModifiedBy>Antonella Piccolo</cp:lastModifiedBy>
  <dcterms:modified xsi:type="dcterms:W3CDTF">2005-02-27T21:34:18Z</dcterms:modified>
  <cp:revision>17</cp:revision>
  <dc:subject/>
  <dc:title>Diapositiva 1</dc:title>
</cp:coreProperties>
</file>